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A98-D237-4AC3-8FA6-B1FD6ED9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999-EA82-49CE-832E-1474221968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(Marzano) Note taking skills.  Students have to be taught to take good notes.  There are many formats:  Informal outlines, webbing, combinations notes—each page is divided into three parts—left hand side is reserved for notes taken using informal outlining, right-handed side is reserved notes taken using webbing and the bottom of the page is reserved for summary statements.  (Page 48 in Marzano for ex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2A2-7CC9-49C8-9E55-C1549C033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students the importance of believing in effort.  Michael Jorda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A420-0332-45A2-A96C-FABD35ED60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Language:  The Very Hungry Caterpillar--Se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v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s whose meanings are known well enough to an individual that he or she would feel comfortable using them while writing or speaking. A person's expressive vocabulary is generally smaller than the receptive, or listening vocabulary, which includes words whose meanings may be only partially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FF6-3EF0-4255-AB43-CFA0A2A4C8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ADD-00CA-4003-9C72-4D1F86BA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7AA-6F11-48E6-89DA-449F95CC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0BC-AA5F-405C-A43F-DFB5D2BB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604-D44D-41A8-BF8F-79359375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3426-A840-4720-BE87-5E972D4C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CFF8-3C81-4F9A-9E28-5F5F824B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F360-3F4A-401E-A03A-551D60C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51C2-83D1-4690-B9B7-5E7CB0F8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0772-5B3C-4F37-B25E-F0E9ADB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85CF-4F39-4E49-A61C-BD2A33B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E96C-DCCB-470E-AA6A-5CF55E5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182-C7D2-44CB-A80D-9FE76721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1C83-989B-486F-8461-383DFF19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CB35-F4F7-47D3-AAD0-714C3C5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D6B5-0F81-486A-8F0D-4789E4DD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ECF-C7DE-4FF8-A5DB-D2AE8BE3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299A-DEBC-4AAE-8892-3A95E1F1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B05-33B8-430A-BEF0-B512013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EB3-CA67-43EE-8AA6-B35F22D9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64C-CE7E-49F9-9F58-75E7ADD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DE0-3145-4BBB-AEBA-2ADB015A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746-BB95-43FA-A791-290668C1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043-F669-4705-998C-EE13DBC6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D3F-55E9-471F-AF17-A290065C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806F-8164-4D84-A442-215CE0C47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8F9E-95F6-47E0-A528-E210D0CBAB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anguage Acquisition Theor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HS ALP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6"/>
          <p:cNvSpPr/>
          <p:nvPr/>
        </p:nvSpPr>
        <p:spPr>
          <a:xfrm>
            <a:off x="152280" y="1905120"/>
            <a:ext cx="8077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Pre-productio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points to the picture of a/the correct ans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draws a picture illustrating a concep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matches i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acts out/demonstrates answ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Early Productio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names ans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matches one-word labels to ans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states answers oral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groups i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responds to W (Who, What, When, Where) and yes/no ques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sessment Techniques by language Acquisition Sta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137160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peech Emergenc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al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telling and resta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fi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plai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pa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arizing and repor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swering “how” and “why” ques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di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Intermediate Fluenc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plaining how and answer was achieved (oral and writt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ssay wri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pressing opinions and judg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ing figurative language (oral and writt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alyzing and explaining data (oral and writt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sessment Techniques by language Acquisition Sta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1698480" y="1058760"/>
            <a:ext cx="447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4920" y="0"/>
            <a:ext cx="853416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ccultur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cculturation is the process of adjusting to a new place, situation, or language.  Your ESL students will experience acculturation on many levels -- to the United States, to English, to American culture, to school -- the possibilities are endless.  Knowing the stages of acculturation and what ESL students go through will help you understand them much bette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tage 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Euphori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excitement, enthusiasm and optimism for everything in the host cultur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tage 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ulture Shoc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negativity ranging from irritability to hostility, from anxiety to outright panic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similar to the stages of grief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tage 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nomi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gradual recovery of equilibrium and objectivit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acknowledgment of positive and negative aspects of both cultur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identity crisis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tage 4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ssimilation or Adop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acceptance of new cultur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recovery of self-confidence and identit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BICS—2 Years to Develo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asic Interpersonal Communication Skills-B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e-to-face Inter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ed through exposure to English speaking peers, TV, and sch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sonality variables—motivation, self-esteem, confid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is the daily oral language students use to communicate in the new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gnitive CALP—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5-7 Years to Develop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gnitive Academic Language Proficiency-CA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ademic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cy related language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ed through reading comprehension, writing ability, higher order thinking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y language development influ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atural Order Hypothe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order of acquisition occurs reliab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mmatical structures are acquired in a predictable orde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quisition of the first language and acquisition of a second language are not done at the same r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e-p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 they lis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a Non-English Speaker or very limited based on IPT Tests—IPT Tests will be previewed l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responds non-verb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:  10 hours to 6 mon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0 Receptive words (words they understand in Englis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CS are developing (playground languag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arly P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Liste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a Limited English Speaker based on IPT Te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responds with one or two words and non-verb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:  3.6 months to 1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00 receptive w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BICS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ech Emerg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 a Limited English Speaker to a fluent speaker based on IPT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errors in speech patterns but the meaning is cl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:  1-2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,000 receptive w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d BICS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termediate Fluenc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seem fluent (based on IPT) but needs to expand vocabulary and CA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ages in dialo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:  3-4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,000 receptive w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P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9:01:06Z</dcterms:created>
  <dc:creator>Jeanette Christenson</dc:creator>
  <dc:description/>
  <dc:language>en-US</dc:language>
  <cp:lastModifiedBy>Box Elder School District</cp:lastModifiedBy>
  <dcterms:modified xsi:type="dcterms:W3CDTF">2012-09-17T17:20:23Z</dcterms:modified>
  <cp:revision>34</cp:revision>
  <dc:subject/>
  <dc:title>Language Acquisition Theory</dc:title>
</cp:coreProperties>
</file>